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8.png" ContentType="image/pn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1C4-B415-4903-80A2-26C95F06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146-CABC-43F7-80C4-45496F4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B98-B8AF-4259-BEFC-90285E1E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16D-EDCB-4036-9EAA-221809F0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86B-77B0-4F08-A613-2B302AFA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59C-7D9A-478F-8C0C-B40AA18B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06E-7546-4632-9B29-7D44DAEC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77F-E28F-4EAE-9A68-32BA038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8DF-DC31-414F-AC90-0264085E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29B-7966-4252-80BD-E9C0E27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F7B-5E08-4352-BA53-FCAE6FF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885-3C4B-406B-90A6-24AE67D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D2A-AA9B-41C7-9D1B-7B978223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истема «Охрана труд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рана труда” - (ст.209 ТК РФ) определяется как  “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ения жизни и здоровья работников в процессе тру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ятельности, включающая в себя правовые, соци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ономические, организационно технические, санита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гиенические, лечебно профилактические,  реабилитационны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ые мероприятия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истема охрана труда – (Система ОТ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своей су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т комплекс правовых, организационных, техническ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ых, экономических, санитарно-гигиенических, лече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тических и иных мероприятий, осуществляемых  с цел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ения жизни и здоровья работников, предуп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арий,  готовности организации к локализации возможных ав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ликвидации их послед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Основные задачи службы охраны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рганизация работы по выполнения работниками требований охраны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контроль за соблюдением работниками законов и иных нормативных правовых актов об охране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организация профилактической работы по  улучшению условий и охраны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информирование и консультирование работников организации, в том числе ее руководителя, по вопросам охраны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изучение и распространение передового опыта по охране труда, пропаганда вопросов охраны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Функции службы </a:t>
            </a:r>
            <a:br>
              <a:rPr sz="4000"/>
            </a:b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охраны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лан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рганизовы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тив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нтр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ордин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171280" y="594900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оллегиальные органы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правления охраной труда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  коллегиальным органам управления ох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труда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омитет (комиссия) по охране труда (постоянно действующая комиссия по охране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омиссия по проверке знаний требований охраны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омиссия по аттестации рабочих мест по условиям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омиссии по приемке в эксплуатацию зданий, сооружений и других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омиссии по расследованию несчастных случаев, аварий, инцидентов, проф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Задачи и порядок деятельности комиссий определяю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500120"/>
          <a:ext cx="8229600" cy="4870440"/>
        </p:xfrm>
        <a:graphic>
          <a:graphicData uri="http://schemas.openxmlformats.org/drawingml/2006/table">
            <a:tbl>
              <a:tblPr/>
              <a:tblGrid>
                <a:gridCol w="3095640"/>
                <a:gridCol w="731880"/>
                <a:gridCol w="4402080"/>
              </a:tblGrid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 расследованию несчастных случаев на производст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роставление Правительства Российской Федерации от 31.08.2002 №653 «О формах документов, необходимых для расследования и учета несчастных случаев на производстве, и особенностях расследования несчастных случаев на производстве».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 расследованию профессиональных заболев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ложение о расследовании и учете профессиональных заболеваний (утверждено постановлением Правительства РФ от 15.12.00 № 967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 расследован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варий на опас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изводственных объект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 рассле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инцидентов на опас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оизводственных объект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ложением о порядке технического расследования причин аварий на опасных производственных объектах (утверждено постановлением Госгортехнадзора России от 08.06.99 №40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Этапы процесса управления 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охраной тру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628640"/>
          <a:ext cx="8085240" cy="4500720"/>
        </p:xfrm>
        <a:graphic>
          <a:graphicData uri="http://schemas.openxmlformats.org/drawingml/2006/table">
            <a:tbl>
              <a:tblPr/>
              <a:tblGrid>
                <a:gridCol w="6650280"/>
                <a:gridCol w="1434960"/>
              </a:tblGrid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следовательность выполнения этапов управле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Анализ состояния охраны труда  в организаци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ринятие решений,  планирование мероприятий по охране труд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дготовка к выполнению запланированных мероприят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ыполнение запланированных мероприятий и требований по обеспечению безопасности при выполнении работ, обслуживании машин и др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нтроль за ходом выполнения запланированных мероприятий и требований безопасности при выполнении работ, обслуживании машин и др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5722920" y="285264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3933720"/>
            <a:ext cx="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472428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5166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740720" y="263700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75480" y="84931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16436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91480" y="870912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9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Анализ состояния </a:t>
            </a:r>
            <a:br>
              <a:rPr sz="4000"/>
            </a:b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охраны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Анали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остояние и причины травмат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остояние и причины профессиональной заболев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остояние и причины инцидентов и ава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остояние рабочих м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остояние производственн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данные, характеризующие организационно-профилактическую 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3.   Прогно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гнозные заключения экспе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татистический прогноз - экстраполяция на основе обработки статистических данных за прошедший период, например, данных об инцидентах, о количестве выявленных при контрольных проверка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Выв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готовка к выполнению мероприятий по охране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дготовка к выполнению мероприятий по охране труда включает след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дэта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работка рабочей (проектно-технологической) докумен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еспечение людскими, финансовыми и материальными ресурс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ыдача план - заданий, распоряжений, графиков выполнения работ цехам, участкам, отдел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дним из обязательных условий подготовки к выполнению плана мероприя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является своевременное и полное обеспечение материальными ресур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териально - техническое обеспечение мероприятий по охран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ключает следующе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) расчет потребности: определение номенклатуры и количества необходимых материалов, оборудования, приборов и средст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) определение организаций-изготовителей, организаций-поставщ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3) сопоставление требуемых денежных ресурсов  и финансовых возможностей орган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) заключение договоров на закупку, постав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5) организация доставки, хранения и распределения материальных ресурсов по структурным подразделен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Arial"/>
              </a:rPr>
              <a:t>Контроль за состоянием охраны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становлено три уровня контроля 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облюдением требований охраны тру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). Государственный надзор и контроль, который осуществляют органы государственного управления и надз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). Корпоративный (производственный) контроль, который обязана проводить сама орган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). Общественный контроль, который осуществляют профсоюзы и иные уполномоченные работниками ор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08720" y="404640"/>
            <a:ext cx="1476360" cy="1283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сновные  положения  и требования  охраны 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66ffcc"/>
                </a:solidFill>
                <a:uFillTx/>
                <a:latin typeface="Arial"/>
              </a:rPr>
              <a:t>Охрану труда обеспечивают три ст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государство, в лице его законодательных, исполнительных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судебных органов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работода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рабо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Стороны, обеспечивающие охрану труда, взаимодей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на следующих принцип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на каждую из сторон возлагаются определенные обязанности (функции) в сфере охран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каждая из сторон наделяется определенными правами, необходимыми для выполнения своих обязанностей (функц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каждая из сторон несёт ответственность, установленную законодательством РФ, за ненадлежащее исполнение своих обязанностей (фун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Arial"/>
              </a:rPr>
              <a:t>Права работодателя в 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Arial"/>
              </a:rPr>
              <a:t>области охраны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Работодатель  имеет пра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заключать, изменять и расторгать трудовые договоры с работни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вести коллективные переговоры и заключать коллективные догов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требовать от работников исполнения ими трудовых обяза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привлекать работников к дисциплинарной и материальной ответстве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принимать локальные нормативные а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создавать объединения работодателе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ель и задачи охраны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руда в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 определения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истемы О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вытекает, что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меет двуединую цель: 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ботников + предупреждение (локализация) авар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асных объектах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ля достижения указанной цели должно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ешено пять основны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беспечение безопасных условий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беспечение безвредных условий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держание  работоспособности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едупреждение ава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отовность организации к локализации аварий и и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8568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Обязанности работодателя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в области охраны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66ff33"/>
                </a:solidFill>
                <a:uFillTx/>
                <a:latin typeface="Arial"/>
              </a:rPr>
              <a:t>Работодатель обязан обеспе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опасность работников при эксплуатации зданий, сооруж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нение средств индивидуальной и коллективной защиты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тветствующие требованиям охраны труда на каждом рабочем 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жим труда и отдыха работников в соответствии с законодательством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обретение и выдачу за счет собственных средств специальной одежды, специальной обуви и других средств индивидуальной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безопасным методам и приемам выполнения работ по охран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допущение к работе лиц, не прошедших в условленном порядке обучение и инструктаж по охран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ю контроля состояния условий труда на рабочих мес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овывать проведение за счет собственных средств обязательных предварительных и периодических медицинских осмо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ждения обязательных медицинских осмо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. д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6764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5400000">
            <a:off x="824436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Понятие социального </a:t>
            </a:r>
            <a:br>
              <a:rPr sz="3600"/>
            </a:b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партнёр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оциальное  партнёрство -  систем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заимоотношений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ботниками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едставителями работников),работода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представителями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ботодателей),  органами государ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ласти,  органами местного самоуправления,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аправленна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беспечение согласования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нтересов работников и работод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опросам регулирования трудовых отношений и 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посредственно связанных с ними 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Цель социального партнерства - согласование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ботников и работодателей, т.е.  принятие  решений, которые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вной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тепени учитывают и необходимость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ффективной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еятельности  организации и создания 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арантий  трудовых прав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б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5400000">
            <a:off x="8316000" y="5877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30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64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290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83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3100"/>
                            </p:stCondLst>
                            <p:childTnLst>
                              <p:par>
                                <p:cTn id="1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88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60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6500"/>
                            </p:stCondLst>
                            <p:childTnLst>
                              <p:par>
                                <p:cTn id="2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сновные принципы социального партнёр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авноправие сторо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уважение и учет интересов стор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заинтересованность сторон в участии в договорных отношен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одействие государства в укреплении и развитии социального партнёрства на демократической осно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облюдение сторонами и их представителями законов и иных нормативных правовых ак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олномочность  представителей стор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вобода выбора при обсуждении вопросов,  входящих в сферу труд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добровольность принятия сторонами на себя обязательст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реальность обязательств,  принимаемых на себя сторо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бязательность выполнения коллективных договоров,  согла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контроль выполнения принятых коллективных договоров, согла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ветственность сторон, их  представителей за  невыполнение  по их вине коллективных договор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огла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1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10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ороны социального партнёр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оронами социального партнерства являются  работники и работодатели в лице  уполномоченных  в установленном  порядке  представ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Формы  социального партнёр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ллективные перегов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заимные консуль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нсультации на уровне организации с участием работников, их представителей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правлении организац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консультации на уровне организации с участием представителей работник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работодателей в досудебном разреш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рудовых сп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1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1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45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55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75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9400"/>
                            </p:stCondLst>
                            <p:childTnLst>
                              <p:par>
                                <p:cTn id="3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едставители работников в социальном партнёрств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Представителями работников в социальном партнёрстве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профессиональные союзы и их объединения, иные  профсоюзные организа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предусмотренные уставами общероссийских  профсою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cc"/>
                </a:solidFill>
                <a:uFillTx/>
                <a:latin typeface="Arial"/>
              </a:rPr>
              <a:t>При  отсутствии в организации первичной профсоюзной организ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1)   работники, не являющиеся членами данного профсоюза передают ему полномочия в порядке,   предусмотренном ст. 30 Т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2)   созывается общее собрание (конференция)  работников, и принимается решение предоставить действующей профсоюзной  организации полномочия по представительству интересов всех  работников орган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3)   общее собрание,  (конференция) поручает выступить от имени работников действующему в организации представительному органу (например, совету трудового коллекти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4)   общее собрание,  (конференция) избирает представительный орган (представителя)  для ведения коллективных переговоров, участия в управлении организа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75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850"/>
                            </p:stCondLst>
                            <p:childTnLst>
                              <p:par>
                                <p:cTn id="3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32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2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2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62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2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дставители работодателей в социальном партнёрств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Представителями работодателя при проведении коллективных переговоро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заключении или изменении коллективного договора являются руководите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организации или  уполномоченные им лица в соответств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Когда в организации одновременно функционируют единоличн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коллективный исполнительный орган, следует опираться на положения уста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При участии в механизме социального партнёрства на федеральном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региональном,  территориальном и отраслевом  уровнях  работод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представляют соответствующие объединения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Представлять работодателей – государственные  и  муницип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предприятия, а также организации, финансируемые из соответствующ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бюджетов, могут  органы исполнительной власти, органы  местн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самоуправления, уполномоченные на представительство законодательством и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работодате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51640" y="549360"/>
            <a:ext cx="1440000" cy="1251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450"/>
                            </p:stCondLst>
                            <p:childTnLst>
                              <p:par>
                                <p:cTn id="4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100"/>
                            </p:stCondLst>
                            <p:childTnLst>
                              <p:par>
                                <p:cTn id="4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700"/>
                            </p:stCondLst>
                            <p:childTnLst>
                              <p:par>
                                <p:cTn id="4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50"/>
                            </p:stCondLst>
                            <p:childTnLst>
                              <p:par>
                                <p:cTn id="4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650"/>
                            </p:stCondLst>
                            <p:childTnLst>
                              <p:par>
                                <p:cTn id="4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400"/>
                            </p:stCondLst>
                            <p:childTnLst>
                              <p:par>
                                <p:cTn id="4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3650"/>
                            </p:stCondLst>
                            <p:childTnLst>
                              <p:par>
                                <p:cTn id="4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7050"/>
                            </p:stCondLst>
                            <p:childTnLst>
                              <p:par>
                                <p:cTn id="4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9450"/>
                            </p:stCondLst>
                            <p:childTnLst>
                              <p:par>
                                <p:cTn id="4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2650"/>
                            </p:stCondLst>
                            <p:childTnLst>
                              <p:par>
                                <p:cTn id="5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6100"/>
                            </p:stCondLst>
                            <p:childTnLst>
                              <p:par>
                                <p:cTn id="5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9300"/>
                            </p:stCondLst>
                            <p:childTnLst>
                              <p:par>
                                <p:cTn id="5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3150"/>
                            </p:stCondLst>
                            <p:childTnLst>
                              <p:par>
                                <p:cTn id="5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Задачи аттестации</a:t>
            </a:r>
            <a:br>
              <a:rPr sz="4000"/>
            </a:b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 рабочих м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ттестация рабочих мест по условиям труда – оценка рабоч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ест на соответствие государственным нормативным треб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игиены и охраны труда, обеспечивающим безопасные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трудовой деятельно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 процессе АРМ должен быть проведен анализ и дан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рабочим местам, должны быть даны ответы на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колько условия труда на рабочих местах соотве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гигиеническим критери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колько оборудование, инструменты и приспосо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травмобезоп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колько  обеспечение работников сред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индивидуальной защиты соответствует установл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требова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400"/>
                            </p:stCondLst>
                            <p:childTnLst>
                              <p:par>
                                <p:cTn id="6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350"/>
                            </p:stCondLst>
                            <p:childTnLst>
                              <p:par>
                                <p:cTn id="6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3550"/>
                            </p:stCondLst>
                            <p:childTnLst>
                              <p:par>
                                <p:cTn id="6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6550"/>
                            </p:stCondLst>
                            <p:childTnLst>
                              <p:par>
                                <p:cTn id="6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805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850"/>
                            </p:stCondLst>
                            <p:childTnLst>
                              <p:par>
                                <p:cTn id="6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3500"/>
                            </p:stCondLst>
                            <p:childTnLst>
                              <p:par>
                                <p:cTn id="6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6400"/>
                            </p:stCondLst>
                            <p:childTnLst>
                              <p:par>
                                <p:cTn id="6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6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0850"/>
                            </p:stCondLst>
                            <p:childTnLst>
                              <p:par>
                                <p:cTn id="6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2100"/>
                            </p:stCondLst>
                            <p:childTnLst>
                              <p:par>
                                <p:cTn id="6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4550"/>
                            </p:stCondLst>
                            <p:childTnLst>
                              <p:par>
                                <p:cTn id="7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7300"/>
                            </p:stCondLst>
                            <p:childTnLst>
                              <p:par>
                                <p:cTn id="7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Базовые понятия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аттестации рабочих мес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абочее место с пространственной точки зрения. Рабочая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остоянное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Условия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акторы рабоч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акторы трудов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редный производственный фактор. Вредные условия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Опасный производственный фа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лассы условий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5400000">
            <a:off x="8171280" y="587772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000"/>
                            </p:stCondLst>
                            <p:childTnLst>
                              <p:par>
                                <p:cTn id="7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7000"/>
                            </p:stCondLst>
                            <p:childTnLst>
                              <p:par>
                                <p:cTn id="7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9000"/>
                            </p:stCondLst>
                            <p:childTnLst>
                              <p:par>
                                <p:cTn id="7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Основные принципы проведения аттестации рабочих мест </a:t>
            </a:r>
            <a:br>
              <a:rPr sz="3200"/>
            </a:b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по условиям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язательность проведения аттес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роки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оведения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аттес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язательность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аттестации всех рабочих мест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Требования к составлению перечня факторов рабоч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роки хранения результирующих документов по аттес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6400"/>
                            </p:stCondLst>
                            <p:childTnLst>
                              <p:par>
                                <p:cTn id="8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9900"/>
                            </p:stCondLst>
                            <p:childTnLst>
                              <p:par>
                                <p:cTn id="8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900"/>
                            </p:stCondLst>
                            <p:childTnLst>
                              <p:par>
                                <p:cTn id="8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1800"/>
                            </p:stCondLst>
                            <p:childTnLst>
                              <p:par>
                                <p:cTn id="8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ринципиальная схема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управления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стемой ОТ 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2133720"/>
          <a:ext cx="8229600" cy="2895480"/>
        </p:xfrm>
        <a:graphic>
          <a:graphicData uri="http://schemas.openxmlformats.org/drawingml/2006/table">
            <a:tbl>
              <a:tblPr/>
              <a:tblGrid>
                <a:gridCol w="801720"/>
                <a:gridCol w="2079720"/>
                <a:gridCol w="3290760"/>
                <a:gridCol w="2057400"/>
              </a:tblGrid>
              <a:tr h="17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 управляющие воздействия ---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цедур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я о состоянии объектов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539640" y="2349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92360" y="3933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79280" y="4869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164000" y="4797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00536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78936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Направления, которые оцениваются при проведении аттестации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рабочих мест по условиям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При аттестации рабочих мест пров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ff00"/>
                </a:solidFill>
                <a:uFillTx/>
                <a:latin typeface="Arial"/>
              </a:rPr>
              <a:t>следующ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определяется класс условий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оценивается травмобезопас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ценивается обеспеченность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редствами индивидуальной защиты (СИЗ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аётся оценка фактического состояния усл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руда на рабочем ме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5400000">
            <a:off x="8171280" y="602208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8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8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6000"/>
                            </p:stCondLst>
                            <p:childTnLst>
                              <p:par>
                                <p:cTn id="8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7000"/>
                            </p:stCondLst>
                            <p:childTnLst>
                              <p:par>
                                <p:cTn id="9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9000"/>
                            </p:stCondLst>
                            <p:childTnLst>
                              <p:par>
                                <p:cTn id="9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08000" y="14400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400" spc="-1" strike="noStrike" u="sng">
                <a:solidFill>
                  <a:srgbClr val="000099"/>
                </a:solidFill>
                <a:uFillTx/>
                <a:latin typeface="Monotype Corsiva"/>
              </a:rPr>
              <a:t>Содержание  </a:t>
            </a:r>
            <a:br>
              <a:rPr sz="6400"/>
            </a:br>
            <a:r>
              <a:rPr b="1" i="1" lang="ru-RU" sz="6400" spc="-1" strike="noStrike" u="sng">
                <a:solidFill>
                  <a:srgbClr val="000099"/>
                </a:solidFill>
                <a:uFillTx/>
                <a:latin typeface="Monotype Corsiva"/>
              </a:rPr>
              <a:t>инструкции</a:t>
            </a:r>
            <a:r>
              <a:rPr b="1" i="1" lang="en-US" sz="6400" spc="-1" strike="noStrike" u="sng">
                <a:solidFill>
                  <a:srgbClr val="000099"/>
                </a:solidFill>
                <a:uFillTx/>
                <a:latin typeface="Monotype Corsiva"/>
              </a:rPr>
              <a:t>: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88960" y="1917360"/>
            <a:ext cx="8159760" cy="4535640"/>
          </a:xfrm>
          <a:prstGeom prst="rect">
            <a:avLst/>
          </a:prstGeom>
          <a:noFill/>
          <a:ln w="101520">
            <a:solidFill>
              <a:srgbClr val="ffff66"/>
            </a:solidFill>
            <a:miter/>
          </a:ln>
          <a:effectLst>
            <a:outerShdw dist="17819" dir="2700000" blurRad="0" rotWithShape="0">
              <a:srgbClr val="0000ff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Общие положения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;</a:t>
            </a: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Цель и задачи деятельности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Координация деятельности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;</a:t>
            </a: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Права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Comic Sans MS"/>
              </a:rPr>
              <a:t>Ответствен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050920" cy="1781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5400000">
            <a:off x="8568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50"/>
                            </p:stCondLst>
                            <p:childTnLst>
                              <p:par>
                                <p:cTn id="9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50"/>
                            </p:stCondLst>
                            <p:childTnLst>
                              <p:par>
                                <p:cTn id="959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7900"/>
                            </p:stCondLst>
                            <p:childTnLst>
                              <p:par>
                                <p:cTn id="97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50"/>
                            </p:stCondLst>
                            <p:childTnLst>
                              <p:par>
                                <p:cTn id="98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300"/>
                            </p:stCondLst>
                            <p:childTnLst>
                              <p:par>
                                <p:cTn id="98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Порядок  установления  диагноза  и  передачи  информации  об  острых  профессиональных  заболевания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ый  диагноз  острого  профессионального  заболевания  ставится врачом  любого  учреждения  здравоохра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каждый  случай заполняется извещение  об  установлении  предварительного  диагноз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становлении предварительного диагноза - острое профессиональное заболевание учреждение здравоохранения обязано в течение суток с даты установления диагноза направить извещение по установленной форме в центр Роспотребнадз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Роспотребнадз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 в  течение  суток  со  дня  его  получения  приступает  к  выяснению  обстоятельств  и  причин  возникновения  заболе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санитарно-гигиеническую характеристику условий труда  работ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е здравоохра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станавливает  заключительный  диагно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ставляет  медицинское  заклю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в  3-дневный  срок  направляет в  центр Роспотребнадзор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одателю, страховщику и в учреждение здравоохра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2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2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рядок  установления  диагноза  и  передачи  информации  о  хронических  профессиональных  заболев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едварительный диагноз хронического профессионального заболевания ставится врачом любого учреждения здравоохра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а каждый случай врачом, выявившим профессиональное заболевание заполняется извещение об установлении предварительного диагно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Учреждение здравоохранения обязано в 3-дневный срок со дня установления диагноза направить извещение о профессиональном заболевании работника по установленной форме в центр Роспотребнадз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Центр Роспотребнадз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- в течение 2 недель со дня получения извещения выясняет обстоятельства и причин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- составляет санитарно – гигиеническую  характеристику  условий  труда  работ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Учреждение здравоохранения в месячный  срок  обязано  направить  больного  на амбулаторное  или  стационарное  обследов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Центр профессиональной  патолог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- ставит заключительный  диагно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- составляет  медицинское  заклю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- в 3 - дневный  срок  направляет  извещение  по  заключительному  диагн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2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2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2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Состав  комиссии  по  </a:t>
            </a:r>
            <a:br>
              <a:rPr sz="3200"/>
            </a:b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расследованию </a:t>
            </a:r>
            <a:br>
              <a:rPr sz="3200"/>
            </a:b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профессионального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главный  врач  центра  государственного  санитарно – эпидемиологического  надз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едставитель работод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пециалист  по  охране  труд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едставитель  профсоюзного  орг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едставитель  учреждения  здравоохра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Обязанности работодателя в части обучения, проверки знаний и аттестации </a:t>
            </a:r>
            <a:br>
              <a:rPr sz="2800"/>
            </a:br>
            <a:r>
              <a:rPr b="1" lang="ru-RU" sz="2800" spc="-1" strike="noStrike">
                <a:solidFill>
                  <a:srgbClr val="66ffcc"/>
                </a:solidFill>
                <a:latin typeface="Arial"/>
              </a:rPr>
              <a:t>по охране труда и промышленн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cc00"/>
                </a:solidFill>
                <a:uFillTx/>
                <a:latin typeface="Arial"/>
              </a:rPr>
              <a:t>Работодатель обязан за счёт собственных сред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беспечивать обучение безопасным методам и приемам выполнения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беспечить инструктаж по охране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беспечить стажировку на рабочих местах 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беспечивать проверку знаний требований охраны труда 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обеспечивать подготовку и аттестацию работников в области промышлен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Работодатель обязан не допускать к работе лиц,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прошедших в установленном порядке обучение, инструктаж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проверку знаний требований  охраны труда и промыш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67640" y="6094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rot="5400000">
            <a:off x="8244360" y="609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2" dur="8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8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1720"/>
                            </p:stCondLst>
                            <p:childTnLst>
                              <p:par>
                                <p:cTn id="1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8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376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5720"/>
                            </p:stCondLst>
                            <p:childTnLst>
                              <p:par>
                                <p:cTn id="1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Обязанности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работников в части обучения,       проверки знаний и аттестации по охране труда и промышленн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99ff"/>
                </a:solidFill>
                <a:uFillTx/>
                <a:latin typeface="Arial"/>
              </a:rPr>
              <a:t>Работник обяз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ходить обучение безопасным методам и приемам выполнения раб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йти инструктаж по охране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йти стажировку на рабочем мес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ходить проверку знаний требований охра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ходить подготовку и аттестацию в области промышленн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667640" y="9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Основные нормативные правовые акты, определяющие порядок обучения и проверки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Документами, определяющими порядок обуч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проверки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знаний, являются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ГОСТ 12.0.004 – 90 «Организация обучения безопасности труд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орядок обучения по охране труда и проверке знаний требований охраны труда работников организаций. Постановление Минтруда и Минобразования РФ № 1/29 от 13.01.03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оложение о порядке подготовки и аттестации работников организаций, осуществляющих деятельность в области промышленной безопасности опасных производственных объектов, подконтрольных Госгортехнадзору. Утв. приказом ГГТН РФ № 21 от 30.04.02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Межотраслевые (отраслевые) правила и инструкции по охране труда и промышлен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667640" y="4572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Порядок обучения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рабочих по ОТ и П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Работодатель (или уполномоченное им лицо) обязан в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есяца после приёма работника на работу (или переводе его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ругую работу, перерыве в работе более 1 года) органи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роведение вводного инструктажа (кроме перевода на другую работ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ервичного инструктажа на рабочем 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обучение работника безопасным методам и приёмам выполнения работ, методам и приёмам оказания первой помощи пострадавш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проверку знаний требований охраны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Для рабочих, занятых на работах с вредными и (или) опас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условиями труда работодатель обязан органи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тажировку на рабочем 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экзамен на знание безопасных методов и приёмов выполнения раб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Программа и содержание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В соответствии с Примерной программой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безопасности труда работников рабочих професс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организаций обучение проводится по разде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основные положения законодательства по охране тру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общие требования по обеспечению безопасности тру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80"/>
                </a:solidFill>
                <a:latin typeface="Arial"/>
              </a:rPr>
              <a:t>требования безопасности по профессии (рабочему месту, отдельным видам работ). Данный раздел должен быть согласован с соответствующими государственными органами контроля и надз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667640" y="30492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rot="5400000">
            <a:off x="824436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Arial"/>
              </a:rPr>
              <a:t>Принципы управления </a:t>
            </a:r>
            <a:br>
              <a:rPr sz="3600"/>
            </a:br>
            <a:r>
              <a:rPr b="1" lang="en-US" sz="3600" spc="-1" strike="noStrike">
                <a:solidFill>
                  <a:srgbClr val="666633"/>
                </a:solidFill>
                <a:latin typeface="Arial"/>
              </a:rPr>
              <a:t>охраной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Основными принципами эффективного управления охраной тру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в организации являютс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Постановка целей и задач на основе анализа, оценки и прогноза состояния охраны труда и промышленной безопасности в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Комплексность, состоящая в том, что мероприятия по безопасности должны обеспечиваться на каждом рабочем месте, по каждому технологическому процессу и подразделению,  по организации в цел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Четкое разграничение задач, функций (обязанностей), прав и ответственности  между структурными подразделениями и должностными лиц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Компетентность, профессиональная грамотность персонала, психологическая установка на выполнение требований охраны труда и промышленной безопас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Взаимодействие, партнерство работодателя с профсоюзами, государственными органами надзора и контроля, органами по труду субъекта Федерации и муниципальными органами по труду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Arial"/>
              </a:rPr>
              <a:t>Виды инструктаж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водный инструк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Первичный инструк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Повторный инструк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Целевой инструк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неплановый инструк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5400000">
            <a:off x="8100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бучение руководителей и специалистов охране тру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Обучение провод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ри приёме на рабо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ри назначении на новую долж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ри переводе на другую рабо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ри вводе в действие новых нормативных документов по охране труда, новой техники,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ри перерыве в работе свыше 1 г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периодически не реже 1 раза в 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5400000">
            <a:off x="8171280" y="602208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6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0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ребования к выдаче и использованию средств индивидуальной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бязанности по обеспечению безопасных условий и ох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руда в организации возлагаются на работодателя (ст. 212 ТК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Работодатель обязан обеспе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менение средств индивидуальной и коллективной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бот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обретение и выдачу за счёт собствен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пециальной одежды, специальной обуви и други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рганизацию контроля за состоянием условий труда на рабоч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ме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информирование работников об условиях и охраны труда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абочи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5400000">
            <a:off x="838728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3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7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1" dur="2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2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9" dur="2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3" dur="20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7" dur="2000"/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1" dur="2000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ff"/>
                </a:solidFill>
                <a:latin typeface="Arial"/>
              </a:rPr>
              <a:t>Базовые понятия в </a:t>
            </a:r>
            <a:br>
              <a:rPr sz="4000"/>
            </a:br>
            <a:r>
              <a:rPr b="1" lang="en-US" sz="4000" spc="-1" strike="noStrike">
                <a:solidFill>
                  <a:srgbClr val="ffccff"/>
                </a:solidFill>
                <a:latin typeface="Arial"/>
              </a:rPr>
              <a:t>системе сертифика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ертификация – форма осуществления органом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ертификации подтверждения соответств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требованиям технических регламентов, поло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тандартов или условиям до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ст. 2 ФЗ  “О техническом регулировании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ертификация соответствия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действия трет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тороны, доказывающие, чт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еобходимая уверенность в том, что должны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дентифицированная продукция, процесс или усл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соответствует конкретному стандарту или друг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нормативному документу (п.13.5 Руко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ИСО/МЭК 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rot="5400000">
            <a:off x="824436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6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0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4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6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0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4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8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2" dur="20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6" dur="20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0" dur="20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Структура системы сертификации работ по охране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Система сертификации – совокупность правил вы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работ по сертификации, её  участников 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функционирования  системы сертификации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Организационная структура СС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1. Всероссийский центр охраны тру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2. Центральный орган СС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3. Аккредитованные органы по серт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4. Аккредитованные испытательные лабора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5. Научно-методический центр сертификации работ по охране (НМ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6. Комиссия по апелля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7. Заяв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67640" y="3808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Направления работ по охране </a:t>
            </a:r>
            <a:br>
              <a:rPr sz="3200"/>
            </a:br>
            <a:r>
              <a:rPr b="1" lang="en-US" sz="3200" spc="-1" strike="noStrike">
                <a:solidFill>
                  <a:srgbClr val="339966"/>
                </a:solidFill>
                <a:latin typeface="Arial"/>
              </a:rPr>
              <a:t>труда, которые оцениваются при сертификации работ по охране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Деятельность работодателя по обеспечению безопасных условий труда в организации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Деятельность службы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Работы по проведению аттестации рабочих мест по условиям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рганизация и проведение инструктажа по охране труда работников и проверки их знаний требований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рганизация деятельности совместных комитетов (комиссий)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ланирование и реализация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Организация функционирования объектов повышенной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100"/>
                            </p:stCondLst>
                            <p:childTnLst>
                              <p:par>
                                <p:cTn id="17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20400"/>
                            </p:stCondLst>
                            <p:childTnLst>
                              <p:par>
                                <p:cTn id="17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30800"/>
                            </p:stCondLst>
                            <p:childTnLst>
                              <p:par>
                                <p:cTn id="17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38300"/>
                            </p:stCondLst>
                            <p:childTnLst>
                              <p:par>
                                <p:cTn id="17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Порядок и процедуры </a:t>
            </a:r>
            <a:br>
              <a:rPr sz="3200"/>
            </a:b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сертификации работ </a:t>
            </a:r>
            <a:br>
              <a:rPr sz="3200"/>
            </a:b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по охране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Подача заявки на проведение сертификации работ по охране труда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Проведение проверки и оценки соответствия работ по охране труда в организации установленным государственным нормативным требованиям охраны труда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Анализ полученных результатов проверки и оценки соответствия работ по охране труда в организации установленным нормативным требов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Выдача сертификата безопас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Инспекционный контроль за сертифицированными работами по охране тру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Рассмотрение апелля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Добровольная сертифик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rot="5400000">
            <a:off x="8171280" y="6093360"/>
            <a:ext cx="863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2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4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2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0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Задачи  управления охраной 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тру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3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задачи управления охраной труда в организации можно выразить тремя вопрос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Что делать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То есть, какие нужно решать проблемы, какие выполнять мероприятия, работы для обеспечения безопасности в данной организации с учетом характера производства, его опасности и вредности, условий труд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Кто делает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кие службы, подразделения, руководители, специалисты обязаны принимать решения, разрабатывать мероприятия, требования, обеспечивать выполнение этих мероприятий и требований, контролировать, нести ответственность за конечный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99"/>
                </a:solidFill>
                <a:latin typeface="Arial"/>
              </a:rPr>
              <a:t>Как делать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 есть какими методами, способами, приемами следует проводить работы, технологические процессы, специальные  мероприятия и требования  охраны труда и промышленной безопасности; в какие сроки, в какой последовательности и с какой  периодичностью; какие необходимы для этого финансовые, материальные и трудовые ресур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5400000">
            <a:off x="8316000" y="5949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РГАНЫ УПРАВЛЕНИЯ ОХРАНОЙ ТРУДА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1280" y="1557360"/>
          <a:ext cx="7921440" cy="4468680"/>
        </p:xfrm>
        <a:graphic>
          <a:graphicData uri="http://schemas.openxmlformats.org/drawingml/2006/table">
            <a:tbl>
              <a:tblPr/>
              <a:tblGrid>
                <a:gridCol w="2641680"/>
                <a:gridCol w="2638080"/>
                <a:gridCol w="2641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ь организа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стители руководителя организации и другие руководители высшего звена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специалисты среднего звена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оводители и специалисты низового звена управл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183528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9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997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4221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380360" y="90792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5400000">
            <a:off x="831600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труктура органов управления охраной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4360" y="1484280"/>
          <a:ext cx="6534000" cy="550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484280"/>
                    <a:ext cx="6534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1476360" cy="1283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5400000">
            <a:off x="8316000" y="609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Органы управления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охраной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жба охраны труда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жба производственного контрол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жба оперативного (диспетчерского)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арийно-спасательная служ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дровая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ие функциональные служ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838728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Структура « Положения о службе охраны тру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Общие 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Основные задачи службы охраны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Функции службы охраны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Права работников службы охраны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Организация работы службы охраны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Формирование службы охраны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Контроль и 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244360" y="60220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2:02:30Z</dcterms:created>
  <dc:creator>Student</dc:creator>
  <dc:description/>
  <dc:language>en-US</dc:language>
  <cp:lastModifiedBy>Botvenko</cp:lastModifiedBy>
  <dcterms:modified xsi:type="dcterms:W3CDTF">2007-03-09T02:52:31Z</dcterms:modified>
  <cp:revision>101</cp:revision>
  <dc:subject/>
  <dc:title>Права работодателя в сфере трудовых отношений </dc:title>
</cp:coreProperties>
</file>